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7488-6254-48F2-AAF6-03B52CA2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composition of terms using 2 or more ont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need to combine into one term, can be 2 separate terms as for our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tool Sohel in collaboration with Mark Gibson (NCB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based application as opposed to java stand-alon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ll obo format ontologies - best way to store data when it becomes more complex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20C-D4B8-4314-8C39-F0888B0F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F34-C11A-42EF-806B-3B4A377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6D2-9934-4F24-9AB8-3D1641B3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643-95D7-4AE5-B8D8-0FF609AF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D47-C3CF-43BA-8195-E2FE02DD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2D3-2239-4502-9666-06B1DB3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053-2132-4BB3-8B4C-9FB289D8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5FA-6AF2-4D55-BE38-2CA15E6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8FB-623F-4DAF-AC5E-BBADBE1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B7F-5A5D-4E33-981D-1F32334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0D3-991B-41AF-9CE7-28234AF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CA0-5D41-4680-BC75-E0954AE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74B4-8839-4E80-8F2A-EF99A28D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 and Ontologies at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98600" y="2286000"/>
            <a:ext cx="1738440" cy="111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73720" y="2101680"/>
            <a:ext cx="3429000" cy="1067040"/>
          </a:xfrm>
          <a:prstGeom prst="rect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438280"/>
            <a:ext cx="1676520" cy="703800"/>
          </a:xfrm>
          <a:prstGeom prst="wedgeRectCallout">
            <a:avLst>
              <a:gd name="adj1" fmla="val -53305"/>
              <a:gd name="adj2" fmla="val -77296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Str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62120" y="2155680"/>
            <a:ext cx="152280" cy="100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81480" y="5105520"/>
            <a:ext cx="2590920" cy="1008720"/>
          </a:xfrm>
          <a:prstGeom prst="wedgeRectCallout">
            <a:avLst>
              <a:gd name="adj1" fmla="val -57166"/>
              <a:gd name="adj2" fmla="val -124560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Existing Phenotype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" y="1595520"/>
            <a:ext cx="88776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42600" cy="490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62520" y="4495680"/>
            <a:ext cx="2590560" cy="1313640"/>
          </a:xfrm>
          <a:prstGeom prst="wedgeRectCallout">
            <a:avLst>
              <a:gd name="adj1" fmla="val 58875"/>
              <a:gd name="adj2" fmla="val -7958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e Parent and Child Terms. Click to Populate Phenotyp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971800"/>
            <a:ext cx="2286000" cy="703800"/>
          </a:xfrm>
          <a:prstGeom prst="wedgeRectCallout">
            <a:avLst>
              <a:gd name="adj1" fmla="val -66245"/>
              <a:gd name="adj2" fmla="val -10474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Phenotyp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598760"/>
            <a:ext cx="8877600" cy="533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4191120"/>
            <a:ext cx="2590920" cy="1008720"/>
          </a:xfrm>
          <a:prstGeom prst="wedgeRectCallout">
            <a:avLst>
              <a:gd name="adj1" fmla="val -57472"/>
              <a:gd name="adj2" fmla="val -11731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Reference by ID or Autho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30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00600"/>
            <a:ext cx="2590920" cy="703800"/>
          </a:xfrm>
          <a:prstGeom prst="wedgeRectCallout">
            <a:avLst>
              <a:gd name="adj1" fmla="val -41736"/>
              <a:gd name="adj2" fmla="val -10362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n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595520"/>
            <a:ext cx="8742600" cy="511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00600" y="5181480"/>
            <a:ext cx="2590920" cy="1008720"/>
          </a:xfrm>
          <a:prstGeom prst="wedgeRectCallout">
            <a:avLst>
              <a:gd name="adj1" fmla="val -60041"/>
              <a:gd name="adj2" fmla="val -127773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  Annotations To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/PATO 2003 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42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343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Resulting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67480" y="3070080"/>
            <a:ext cx="1828800" cy="38124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5029200"/>
            <a:ext cx="2590920" cy="1008720"/>
          </a:xfrm>
          <a:prstGeom prst="wedgeRectCallout">
            <a:avLst>
              <a:gd name="adj1" fmla="val -95884"/>
              <a:gd name="adj2" fmla="val -64162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Existing Phenotyp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4840" y="1676520"/>
            <a:ext cx="8732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4840" y="1625760"/>
            <a:ext cx="8732880" cy="5136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3079800"/>
            <a:ext cx="129564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267080"/>
            <a:ext cx="53316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105520"/>
            <a:ext cx="1295280" cy="30456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dditional Ontologie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04760" y="1828800"/>
            <a:ext cx="3110040" cy="4997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83520" y="13431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41200" y="1371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2501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issection of Dicty phenotype ontology terms to fit PATO Entity-Qua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Collaboration with other groups on PATO and phenotype-related ontologies (e.g., genetic context, environmental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Provide phenotype annotation tool to GMOD as open-sourc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Principal Investi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Rex Chis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Warren Kib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Softwar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Eric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Sohel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Cu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etra F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ascale Gau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Karen Pil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GO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Ontology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30560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362320"/>
            <a:ext cx="4311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20 Phenotyp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1780 Phenotype 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70 Genes with Phenotype Annot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revious Phenotype Representation 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00000">
            <a:off x="2971800" y="27428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3045200">
            <a:off x="5409360" y="2718720"/>
            <a:ext cx="685800" cy="22896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3124080"/>
            <a:ext cx="2792160" cy="1648080"/>
            <a:chOff x="762120" y="3124080"/>
            <a:chExt cx="2792160" cy="1648080"/>
          </a:xfrm>
        </p:grpSpPr>
        <p:sp>
          <p:nvSpPr>
            <p:cNvPr id="59" name=""/>
            <p:cNvSpPr/>
            <p:nvPr/>
          </p:nvSpPr>
          <p:spPr>
            <a:xfrm>
              <a:off x="762120" y="312408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192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23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943600" y="3124080"/>
            <a:ext cx="2666880" cy="1648080"/>
            <a:chOff x="5943600" y="3124080"/>
            <a:chExt cx="2666880" cy="1648080"/>
          </a:xfrm>
        </p:grpSpPr>
        <p:sp>
          <p:nvSpPr>
            <p:cNvPr id="63" name=""/>
            <p:cNvSpPr/>
            <p:nvPr/>
          </p:nvSpPr>
          <p:spPr>
            <a:xfrm>
              <a:off x="5943600" y="3124080"/>
              <a:ext cx="236232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588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124080" y="1922400"/>
            <a:ext cx="2764080" cy="51300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6376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11440" y="19270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7212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9640" y="19270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New Phenotype Representation 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784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152880"/>
            <a:ext cx="2362320" cy="1342800"/>
          </a:xfrm>
          <a:prstGeom prst="roundRect">
            <a:avLst>
              <a:gd name="adj" fmla="val 16667"/>
            </a:avLst>
          </a:prstGeom>
          <a:solidFill>
            <a:srgbClr val="eccf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305240" y="2725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4400000">
            <a:off x="322416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00000">
            <a:off x="537228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4298400" y="46670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9800000">
            <a:off x="2936880" y="4666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3500000">
            <a:off x="5721120" y="46281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4140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9428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096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288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5840" y="1924200"/>
            <a:ext cx="276408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55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19288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609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038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214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8804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77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540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931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360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536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Strain and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d Strain Details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Development of a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eveloped in collaboration with NC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Similar in functionality to Ph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Web-based tool that can be accessed from an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eatures of the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Runs on top of the Chado database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Uses terms from ontologies in .obo format for phenotype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Auto-completes ontology terms similar to Google Su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Built using Web 2.0 technologies such as AJ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0:40Z</dcterms:created>
  <dc:creator>Petra Fey</dc:creator>
  <dc:description/>
  <dc:language>en-US</dc:language>
  <cp:lastModifiedBy> </cp:lastModifiedBy>
  <dcterms:modified xsi:type="dcterms:W3CDTF">2006-12-01T20:12:39Z</dcterms:modified>
  <cp:revision>37</cp:revision>
  <dc:subject/>
  <dc:title>Phenotype Curation Tool and Ontologies at dictyBase</dc:title>
</cp:coreProperties>
</file>